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4666-D79B-440F-BD00-2D28B84D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8E4B-4D75-4F6E-80A8-42864002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D6A0-60B2-4BCB-BC1F-94EB6AA3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579D-7E62-4CDA-B451-DDACFD61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A1EA-71F2-4D7A-ACB5-9E1A31EF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5C4C-5071-41B9-BEAC-A1738E10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936A-7872-43A0-A77E-2F895FAA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8BEC-6E4C-4FFC-9D2F-2813E25C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A480-F2C9-4725-9C7C-DDB208E5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4F5D-5C19-4287-9CEA-D3A827EC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9264-571A-4D59-A01C-301E2E09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7650-C9FF-4CF2-970B-ECD3F469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653B-F78D-4762-9F16-0D79E3B5A3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Drama, Poetry, Literary Term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e8d8c"/>
                </a:solidFill>
                <a:latin typeface="Calibri"/>
              </a:rPr>
              <a:t>Romeo &amp; Julie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Metaphor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comparison of two unlike things that does not use like or as; it says that something is something els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imil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comparison of two unlike things using like or a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ersonific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Giving living qualities to inanimate (non-living) object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oi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character who provides a striking contrast to another character; used to emphasize the traits possessed by both characte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lank Ver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Unrhymed poetry with regular rhythm spoken by most of the characters in the play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ros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ntences, not poetry, spoken by servants or common peopl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Why wouldn’t the servants get to speak in poetry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hyming Couple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wo consecutive lines that rhyme; often it is used by an actor to signal the end of a scene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rchaic Languag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Words like “thou” and “doth” and “thither” which have disappeared from common us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Other 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u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A joke based on several words with several meanings or on words that sound alike but have different meanings.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75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My grade in Marine Biology is below sea-level.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When Mercutio begs Romeo to dance, Romeo refuses. Unlike Mercutio’s shoes with “nimble soles,” Romeo says that he has a “soul of lead.”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75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2f2b20"/>
                </a:solidFill>
                <a:latin typeface="Calibri"/>
              </a:rPr>
              <a:t>Mom, thanks for the soup. It was SOUPer!”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hakespearean Sonnet #116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56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et me not to the marriage of true minds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dmit impediments. Love is not love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ich alters when it alteration finds,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 bends with the remover to remove: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 no! it is an ever-fixed mark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at looks on tempests and is never shaken;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t is the star to every wandering bark,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hose worth's unknown, although his height be taken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ve's not Time's fool, though rosy lips and cheeks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ithin his bending sickle's compass come: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Love alters not with his brief hours and weeks, 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ut bears it out even to the edge of doom.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   If this be error and upon me proved,</a:t>
            </a: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   I never writ, nor no man ever loved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6553080" y="1295280"/>
            <a:ext cx="19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Metapho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Syllable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Personificatio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Archaic Languag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rhyming coupl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efore we begin…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w is a play different from a novel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ook through the terms on your paper and talk with your table partner about any that you may know/be familiar with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hakespearean Sonnet #130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5998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3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My mistress' eyes are nothing like the sun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Coral is far more red than her lips' red: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f snow be white, why then her breasts are dun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f hairs be wires, black wires grow on her head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 have seen roses damask'd, red and white,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But no such roses see I in her cheeks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And in some perfumes is there more deligh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Than in the breath that from my mistress reeks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 love to hear her speak, yet well I know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That music hath a far more pleasing sound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I grant I never saw a goddess go: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My mistress, when she walks, treads on the ground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  And yet, by heaven, I think my love as rar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  As any she belied with false compare.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800600" y="160020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Simil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Syllable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Personificatio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Archaic Languag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-rhyming coupl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As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A speech by a character that is heard by the audience but not by the other characte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Monologu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long speech by one character directed to at least one other character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Sililoqu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long speech spoken by a character who (presumably) is along on stage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75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2b20"/>
                </a:solidFill>
                <a:latin typeface="Calibri"/>
              </a:rPr>
              <a:t>Lets the audience know what the character is thinking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Prologu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A speech at the beginning of an act directed at the audience which comments on the events in the play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Dialogu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onversation between 2 character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Foreshadow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Hints or clues that the writer gives to indicate events and situations that will occur later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mager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scriptive words and phrases that re-create sensory experiences for the reader; writing that appeals to one or more of the senses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3:10:44Z</dcterms:created>
  <dc:creator>Alexa Hayes</dc:creator>
  <dc:description/>
  <dc:language>en-US</dc:language>
  <cp:lastModifiedBy>Alexa Hayes</cp:lastModifiedBy>
  <dcterms:modified xsi:type="dcterms:W3CDTF">2013-02-15T15:29:17Z</dcterms:modified>
  <cp:revision>4</cp:revision>
  <dc:subject/>
  <dc:title>Drama, Poetry, Literary Terms</dc:title>
</cp:coreProperties>
</file>